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205A8-3939-452A-9148-B9604BE3F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B2D97-4BA7-45EA-9D04-145065670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54B65-9B21-4FE8-A29E-FD7030057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955E0-C12C-4D60-8E95-6602CFFF0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A2424-7797-4DF4-8FA9-6BC4D5625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05820-47E2-40F5-88D3-1C6C56520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CC9CC-5F56-483F-B703-9ECF50FD4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622B4-EA4A-448E-9F68-AA2D61484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C8F1A-FFBB-44E3-A801-D9A8F028B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DC13C-868B-4587-AE92-EC04137D2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7422A-1C12-4339-BA60-F8C8FABDF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1F4FF-42E3-4EC1-BB7A-8B035DAC5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88604-D286-4467-AC9E-AB30EF45C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FEA6F-F69D-4321-BC03-B385DAFDE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440D0-D20E-40DC-84EE-94CDC1A22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1BFE9-6F75-49B4-9232-B246C97C7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E8F25-7D28-4B65-B6A1-E6542158C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51158-23D1-4153-A32D-A26330576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A63E2-0527-4A8E-8CBE-F5290B200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1EA28-4C40-4FEC-8253-1AE0E634B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8E46-A868-4321-ADB4-54397DC8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09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2840"/>
            <a:ext cx="77709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B804-401F-4317-9D18-356310F2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284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760" y="409284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DED4-F52D-49A7-87EE-78DAE662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0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440" y="1904760"/>
            <a:ext cx="25020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720" y="1904760"/>
            <a:ext cx="25020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2840"/>
            <a:ext cx="25020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440" y="4092840"/>
            <a:ext cx="25020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720" y="4092840"/>
            <a:ext cx="25020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4916-EA16-45CB-9D51-71005B55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E434-4785-430A-B12D-CCCE547C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0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82E0-0307-44A7-BB71-4B33007A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09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721B-14C1-40BD-BD8E-63F62F5F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2E57-A518-4DA5-A06A-B8BE5C18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3961-8A3C-4F07-BFF5-CFC19E80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224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72AF-8738-427D-BA30-72A27AE6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284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2F95-85AE-48DA-A9DB-F9AAEB93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0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13F4-6E0C-4C22-9DFF-AACABC82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7760" y="409284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F417-327E-4556-ADE2-D52C7F58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2840"/>
            <a:ext cx="77709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CBEB-0550-4827-AED9-A1EB8E51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09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2840"/>
            <a:ext cx="77709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B983-8F13-4B7D-A4AA-8C740A1A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284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7760" y="409284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C641-828B-4A3F-A508-1C647819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0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440" y="1904760"/>
            <a:ext cx="25020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0720" y="1904760"/>
            <a:ext cx="25020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2840"/>
            <a:ext cx="25020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440" y="4092840"/>
            <a:ext cx="25020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0720" y="4092840"/>
            <a:ext cx="25020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6998-31E9-4402-B9AE-34331BE8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09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671A-87AA-4B67-AD72-854D9555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91D0-35BF-472D-8EA5-8B6AF1A5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1AA2-525F-4B45-92E4-58CA32D7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224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72B6-0EB4-4E5B-BA84-891E5129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284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4E86-93C3-4F4C-9492-44FA27D7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760" y="409284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F90B-5B69-44FA-A376-A8D3F0A6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2840"/>
            <a:ext cx="77709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8D0E-CD00-4138-8EB9-2BFAC728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09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1720" cy="60804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BE7E88-39E8-44EA-BEA9-D27EC0C0571C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0960" cy="114156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800" spc="-1" strike="noStrike">
                <a:solidFill>
                  <a:srgbClr val="00264c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264c"/>
                </a:solidFill>
                <a:latin typeface="Arial"/>
              </a:rPr>
              <a:t>Created by D. Gilr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264c"/>
                </a:solidFill>
                <a:latin typeface="Arial"/>
              </a:rPr>
              <a:t>Heart Lake Secondary Scho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94911-DF62-40FA-A18F-08AA03D83359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7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4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9B342-DD97-45D0-AA03-06D4451BAAAB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6765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6000" spc="-1" strike="noStrike">
                <a:solidFill>
                  <a:srgbClr val="ffffe9"/>
                </a:solidFill>
                <a:latin typeface="Arial"/>
              </a:rPr>
              <a:t>The Work Sheet and Financial Statements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76320" y="76320"/>
            <a:ext cx="3276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264c"/>
                </a:solidFill>
                <a:latin typeface="Tahoma"/>
              </a:rPr>
              <a:t>Chapter 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3D7978-BC83-4694-9D7C-DC3BBBC16377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93680" y="193680"/>
            <a:ext cx="805032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teps in Preparing a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ork Shee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3" name="Object 2"/>
          <p:cNvGraphicFramePr/>
          <p:nvPr/>
        </p:nvGraphicFramePr>
        <p:xfrm>
          <a:off x="0" y="1409760"/>
          <a:ext cx="9144000" cy="59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09760"/>
                    <a:ext cx="914400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ectangle 3"/>
          <p:cNvSpPr/>
          <p:nvPr/>
        </p:nvSpPr>
        <p:spPr>
          <a:xfrm>
            <a:off x="0" y="647712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960" y="6362640"/>
            <a:ext cx="4800600" cy="457200"/>
          </a:xfrm>
          <a:prstGeom prst="rect">
            <a:avLst/>
          </a:prstGeom>
          <a:solidFill>
            <a:srgbClr val="e8e7d8"/>
          </a:solidFill>
          <a:ln w="63360">
            <a:solidFill>
              <a:srgbClr val="00264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78c0b2"/>
                </a:solidFill>
                <a:uFillTx/>
                <a:latin typeface="Arial"/>
              </a:rPr>
              <a:t>Step 4:</a:t>
            </a:r>
            <a:r>
              <a:rPr b="1" lang="en-US" sz="2800" spc="-1" strike="noStrike">
                <a:solidFill>
                  <a:srgbClr val="78c0b2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(b) calc. differenc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77" name="Group 5"/>
          <p:cNvGrpSpPr/>
          <p:nvPr/>
        </p:nvGrpSpPr>
        <p:grpSpPr>
          <a:xfrm>
            <a:off x="5837400" y="2362320"/>
            <a:ext cx="2238120" cy="3960360"/>
            <a:chOff x="5837400" y="2362320"/>
            <a:chExt cx="2238120" cy="3960360"/>
          </a:xfrm>
        </p:grpSpPr>
        <p:sp>
          <p:nvSpPr>
            <p:cNvPr id="178" name="Rectangle 6"/>
            <p:cNvSpPr/>
            <p:nvPr/>
          </p:nvSpPr>
          <p:spPr>
            <a:xfrm>
              <a:off x="5837400" y="2362320"/>
              <a:ext cx="2238120" cy="2360880"/>
            </a:xfrm>
            <a:prstGeom prst="rect">
              <a:avLst/>
            </a:prstGeom>
            <a:solidFill>
              <a:srgbClr val="78c0b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Make sure th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difference for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the </a:t>
              </a: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Incom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Statem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columns equal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the difference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for the </a:t>
              </a: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Balanc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Sheet</a:t>
              </a: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 columns.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7"/>
            <p:cNvSpPr/>
            <p:nvPr/>
          </p:nvSpPr>
          <p:spPr>
            <a:xfrm flipH="1">
              <a:off x="5916240" y="4723200"/>
              <a:ext cx="992880" cy="159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>
              <a:off x="7012440" y="4723200"/>
              <a:ext cx="986400" cy="159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Group 9"/>
          <p:cNvGrpSpPr/>
          <p:nvPr/>
        </p:nvGrpSpPr>
        <p:grpSpPr>
          <a:xfrm>
            <a:off x="5829480" y="1828800"/>
            <a:ext cx="2238120" cy="4493880"/>
            <a:chOff x="5829480" y="1828800"/>
            <a:chExt cx="2238120" cy="4493880"/>
          </a:xfrm>
        </p:grpSpPr>
        <p:sp>
          <p:nvSpPr>
            <p:cNvPr id="182" name="Rectangle 10"/>
            <p:cNvSpPr/>
            <p:nvPr/>
          </p:nvSpPr>
          <p:spPr>
            <a:xfrm>
              <a:off x="5829480" y="1828800"/>
              <a:ext cx="2238120" cy="2894400"/>
            </a:xfrm>
            <a:prstGeom prst="rect">
              <a:avLst/>
            </a:prstGeom>
            <a:solidFill>
              <a:srgbClr val="78c0b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If they are </a:t>
              </a:r>
              <a:r>
                <a:rPr b="1" lang="en-US" sz="2200" spc="-1" strike="noStrike" u="sng">
                  <a:solidFill>
                    <a:srgbClr val="00264c"/>
                  </a:solidFill>
                  <a:uFillTx/>
                  <a:latin typeface="Arial"/>
                </a:rPr>
                <a:t>no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equal, the work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sheet do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not balance</a:t>
              </a: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Errors must be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found before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proceeding to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the preparation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of financial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statements.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 flipH="1">
              <a:off x="5907960" y="4723200"/>
              <a:ext cx="992520" cy="159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>
              <a:off x="7004520" y="4723200"/>
              <a:ext cx="986400" cy="159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" name="Group 4"/>
          <p:cNvGrpSpPr/>
          <p:nvPr/>
        </p:nvGrpSpPr>
        <p:grpSpPr>
          <a:xfrm>
            <a:off x="4838760" y="6286680"/>
            <a:ext cx="4341240" cy="201240"/>
            <a:chOff x="4838760" y="6286680"/>
            <a:chExt cx="4341240" cy="201240"/>
          </a:xfrm>
        </p:grpSpPr>
        <p:sp>
          <p:nvSpPr>
            <p:cNvPr id="186" name="Oval 5"/>
            <p:cNvSpPr/>
            <p:nvPr/>
          </p:nvSpPr>
          <p:spPr>
            <a:xfrm>
              <a:off x="4838760" y="6286680"/>
              <a:ext cx="1218600" cy="200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Oval 6"/>
            <p:cNvSpPr/>
            <p:nvPr/>
          </p:nvSpPr>
          <p:spPr>
            <a:xfrm>
              <a:off x="7961400" y="6287760"/>
              <a:ext cx="1218600" cy="200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9542ED-5726-452F-A1EC-3C5506D93BB6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3680" y="193680"/>
            <a:ext cx="805032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teps in Preparing a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ork Shee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0" name="Object 2"/>
          <p:cNvGraphicFramePr/>
          <p:nvPr/>
        </p:nvGraphicFramePr>
        <p:xfrm>
          <a:off x="0" y="1409760"/>
          <a:ext cx="9144000" cy="59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09760"/>
                    <a:ext cx="914400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3822840"/>
          </a:xfrm>
          <a:prstGeom prst="rect">
            <a:avLst/>
          </a:prstGeom>
          <a:solidFill>
            <a:srgbClr val="e8e7d8"/>
          </a:solidFill>
          <a:ln w="63360">
            <a:solidFill>
              <a:srgbClr val="00264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600" spc="-1" strike="noStrike" u="sng">
                <a:solidFill>
                  <a:srgbClr val="78c0b2"/>
                </a:solidFill>
                <a:uFillTx/>
                <a:latin typeface="Arial"/>
              </a:rPr>
              <a:t>Step 4:</a:t>
            </a:r>
            <a:r>
              <a:rPr b="1" lang="en-US" sz="2800" spc="-1" strike="noStrike">
                <a:solidFill>
                  <a:srgbClr val="78c0b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(c) Record the balancing figure 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(difference) in the appropriate Income 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Statement and Balance Sheet column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Because revenues (Income Statement credits) 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are greater than expenses (debits) the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difference is 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Net Income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 and it is recorded in 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the debit column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The balancing figure appears on the credit side 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of the Balance Sheet section, because 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Net 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Income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 represents an increase in capital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4838760" y="6286680"/>
            <a:ext cx="4341240" cy="201240"/>
            <a:chOff x="4838760" y="6286680"/>
            <a:chExt cx="4341240" cy="201240"/>
          </a:xfrm>
        </p:grpSpPr>
        <p:sp>
          <p:nvSpPr>
            <p:cNvPr id="194" name="Oval 5"/>
            <p:cNvSpPr/>
            <p:nvPr/>
          </p:nvSpPr>
          <p:spPr>
            <a:xfrm>
              <a:off x="4838760" y="6286680"/>
              <a:ext cx="1218600" cy="200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Oval 6"/>
            <p:cNvSpPr/>
            <p:nvPr/>
          </p:nvSpPr>
          <p:spPr>
            <a:xfrm>
              <a:off x="7961400" y="6287760"/>
              <a:ext cx="1218600" cy="200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F8726E-81DF-4FB4-B61D-D7FE03FEA68E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3680" y="193680"/>
            <a:ext cx="805032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teps in Preparing a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ork Shee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8" name="Object 2"/>
          <p:cNvGraphicFramePr/>
          <p:nvPr/>
        </p:nvGraphicFramePr>
        <p:xfrm>
          <a:off x="0" y="1409760"/>
          <a:ext cx="9144000" cy="59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09760"/>
                    <a:ext cx="914400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E79623-9E6C-4AFF-BC21-784E6F79AA4B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3680" y="193680"/>
            <a:ext cx="805032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teps in Preparing a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ork Shee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2" name="Object 2"/>
          <p:cNvGraphicFramePr/>
          <p:nvPr/>
        </p:nvGraphicFramePr>
        <p:xfrm>
          <a:off x="0" y="1409760"/>
          <a:ext cx="9144000" cy="59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09760"/>
                    <a:ext cx="914400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Rectangle 3"/>
          <p:cNvSpPr/>
          <p:nvPr/>
        </p:nvSpPr>
        <p:spPr>
          <a:xfrm>
            <a:off x="4876920" y="2743200"/>
            <a:ext cx="3822480" cy="1447920"/>
          </a:xfrm>
          <a:prstGeom prst="rect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 u="sng">
                <a:solidFill>
                  <a:srgbClr val="00264c"/>
                </a:solidFill>
                <a:uFillTx/>
                <a:latin typeface="Arial"/>
              </a:rPr>
              <a:t>Income Statement Colum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Revenue (credits) grea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than expenses (debits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Result …  </a:t>
            </a: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Net Income</a:t>
            </a: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4"/>
          <p:cNvSpPr/>
          <p:nvPr/>
        </p:nvSpPr>
        <p:spPr>
          <a:xfrm flipH="1">
            <a:off x="5908320" y="4191120"/>
            <a:ext cx="1027080" cy="2133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5943600" y="6400800"/>
            <a:ext cx="20574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4876920" y="2743200"/>
            <a:ext cx="3822480" cy="1447920"/>
          </a:xfrm>
          <a:prstGeom prst="rect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 u="sng">
                <a:solidFill>
                  <a:srgbClr val="00264c"/>
                </a:solidFill>
                <a:uFillTx/>
                <a:latin typeface="Arial"/>
              </a:rPr>
              <a:t>Balance Sheet Colum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Net Income</a:t>
            </a: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 (the balanc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figure) is on the credit sid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as it is an increase to capit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0A6441-CE61-48B7-B5E1-88A5E241E0D7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3680" y="193680"/>
            <a:ext cx="805032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teps in Preparing a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ork Shee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0" name="Object 2"/>
          <p:cNvGraphicFramePr/>
          <p:nvPr/>
        </p:nvGraphicFramePr>
        <p:xfrm>
          <a:off x="0" y="1409760"/>
          <a:ext cx="9144000" cy="59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09760"/>
                    <a:ext cx="914400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Rectangle 3"/>
          <p:cNvSpPr/>
          <p:nvPr/>
        </p:nvSpPr>
        <p:spPr>
          <a:xfrm>
            <a:off x="4724280" y="2286000"/>
            <a:ext cx="4343400" cy="1905120"/>
          </a:xfrm>
          <a:prstGeom prst="rect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 u="sng">
                <a:solidFill>
                  <a:srgbClr val="00264c"/>
                </a:solidFill>
                <a:uFillTx/>
                <a:latin typeface="Arial"/>
              </a:rPr>
              <a:t>Income Statement Colum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If the work sheet showed 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Net Loss</a:t>
            </a: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, the expenses (debit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would be greater than th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revenues (credits).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Net Loss</a:t>
            </a: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 (balancing figur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would be in the credit column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4737240" y="2286000"/>
            <a:ext cx="4343400" cy="1905120"/>
          </a:xfrm>
          <a:prstGeom prst="rect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 u="sng">
                <a:solidFill>
                  <a:srgbClr val="00264c"/>
                </a:solidFill>
                <a:uFillTx/>
                <a:latin typeface="Arial"/>
              </a:rPr>
              <a:t>Balance Sheet Colum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If the work sheet showed 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Net Loss,</a:t>
            </a: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 the balanc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figure would be on th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debit side as it is a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264c"/>
                </a:solidFill>
                <a:latin typeface="Arial"/>
              </a:rPr>
              <a:t>decrease to capital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Group 5"/>
          <p:cNvGrpSpPr/>
          <p:nvPr/>
        </p:nvGrpSpPr>
        <p:grpSpPr>
          <a:xfrm>
            <a:off x="5867280" y="4191120"/>
            <a:ext cx="1065240" cy="2309400"/>
            <a:chOff x="5867280" y="4191120"/>
            <a:chExt cx="1065240" cy="2309400"/>
          </a:xfrm>
        </p:grpSpPr>
        <p:sp>
          <p:nvSpPr>
            <p:cNvPr id="215" name="Line 6"/>
            <p:cNvSpPr/>
            <p:nvPr/>
          </p:nvSpPr>
          <p:spPr>
            <a:xfrm flipH="1">
              <a:off x="6397920" y="4191120"/>
              <a:ext cx="459000" cy="205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Oval 7"/>
            <p:cNvSpPr/>
            <p:nvPr/>
          </p:nvSpPr>
          <p:spPr>
            <a:xfrm>
              <a:off x="5867280" y="6272280"/>
              <a:ext cx="1065240" cy="228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Group 8"/>
          <p:cNvGrpSpPr/>
          <p:nvPr/>
        </p:nvGrpSpPr>
        <p:grpSpPr>
          <a:xfrm>
            <a:off x="6934320" y="4191120"/>
            <a:ext cx="1065240" cy="2309400"/>
            <a:chOff x="6934320" y="4191120"/>
            <a:chExt cx="1065240" cy="2309400"/>
          </a:xfrm>
        </p:grpSpPr>
        <p:sp>
          <p:nvSpPr>
            <p:cNvPr id="218" name="Line 9"/>
            <p:cNvSpPr/>
            <p:nvPr/>
          </p:nvSpPr>
          <p:spPr>
            <a:xfrm>
              <a:off x="6934320" y="4191120"/>
              <a:ext cx="532440" cy="205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Oval 10"/>
            <p:cNvSpPr/>
            <p:nvPr/>
          </p:nvSpPr>
          <p:spPr>
            <a:xfrm>
              <a:off x="6934320" y="6272280"/>
              <a:ext cx="1065240" cy="228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3AC06A-B84E-442C-AE63-242C80BDF7CA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93680" y="178920"/>
            <a:ext cx="805032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The Work Sheet and the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Financial Statemen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2" name="Object 2"/>
          <p:cNvGraphicFramePr/>
          <p:nvPr/>
        </p:nvGraphicFramePr>
        <p:xfrm>
          <a:off x="0" y="1409760"/>
          <a:ext cx="9144000" cy="59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09760"/>
                    <a:ext cx="914400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Group 3"/>
          <p:cNvGrpSpPr/>
          <p:nvPr/>
        </p:nvGrpSpPr>
        <p:grpSpPr>
          <a:xfrm>
            <a:off x="25560" y="1392120"/>
            <a:ext cx="7102080" cy="5612040"/>
            <a:chOff x="25560" y="1392120"/>
            <a:chExt cx="7102080" cy="5612040"/>
          </a:xfrm>
        </p:grpSpPr>
        <p:graphicFrame>
          <p:nvGraphicFramePr>
            <p:cNvPr id="225" name="Object 4"/>
            <p:cNvGraphicFramePr/>
            <p:nvPr/>
          </p:nvGraphicFramePr>
          <p:xfrm>
            <a:off x="25560" y="1392120"/>
            <a:ext cx="6932520" cy="5612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6" name="Object 4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5560" y="1392120"/>
                      <a:ext cx="6932520" cy="561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7" name="AutoShape 5"/>
            <p:cNvSpPr/>
            <p:nvPr/>
          </p:nvSpPr>
          <p:spPr>
            <a:xfrm>
              <a:off x="6945480" y="1409400"/>
              <a:ext cx="182160" cy="5561280"/>
            </a:xfrm>
            <a:custGeom>
              <a:avLst/>
              <a:gdLst>
                <a:gd name="textAreaLeft" fmla="*/ 0 w 182160"/>
                <a:gd name="textAreaRight" fmla="*/ 65880 w 182160"/>
                <a:gd name="textAreaTop" fmla="*/ 144720 h 5561280"/>
                <a:gd name="textAreaBottom" fmla="*/ 5416560 h 556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solidFill>
              <a:srgbClr val="ccffcc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Group 6"/>
          <p:cNvGrpSpPr/>
          <p:nvPr/>
        </p:nvGrpSpPr>
        <p:grpSpPr>
          <a:xfrm>
            <a:off x="3352680" y="3200400"/>
            <a:ext cx="5789520" cy="1903320"/>
            <a:chOff x="3352680" y="3200400"/>
            <a:chExt cx="5789520" cy="1903320"/>
          </a:xfrm>
        </p:grpSpPr>
        <p:sp>
          <p:nvSpPr>
            <p:cNvPr id="229" name="Rectangle 7"/>
            <p:cNvSpPr/>
            <p:nvPr/>
          </p:nvSpPr>
          <p:spPr>
            <a:xfrm>
              <a:off x="7161840" y="3200400"/>
              <a:ext cx="1980360" cy="9133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Rectangle 8"/>
            <p:cNvSpPr/>
            <p:nvPr/>
          </p:nvSpPr>
          <p:spPr>
            <a:xfrm>
              <a:off x="3352680" y="3961800"/>
              <a:ext cx="2361600" cy="1141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9"/>
            <p:cNvSpPr/>
            <p:nvPr/>
          </p:nvSpPr>
          <p:spPr>
            <a:xfrm flipH="1">
              <a:off x="5788800" y="4024800"/>
              <a:ext cx="137448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Group 10"/>
          <p:cNvGrpSpPr/>
          <p:nvPr/>
        </p:nvGrpSpPr>
        <p:grpSpPr>
          <a:xfrm>
            <a:off x="4330800" y="4038480"/>
            <a:ext cx="4811400" cy="1776240"/>
            <a:chOff x="4330800" y="4038480"/>
            <a:chExt cx="4811400" cy="1776240"/>
          </a:xfrm>
        </p:grpSpPr>
        <p:sp>
          <p:nvSpPr>
            <p:cNvPr id="233" name="Oval 11"/>
            <p:cNvSpPr/>
            <p:nvPr/>
          </p:nvSpPr>
          <p:spPr>
            <a:xfrm>
              <a:off x="7923600" y="4038480"/>
              <a:ext cx="1218600" cy="3045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Oval 12"/>
            <p:cNvSpPr/>
            <p:nvPr/>
          </p:nvSpPr>
          <p:spPr>
            <a:xfrm>
              <a:off x="4330800" y="5434200"/>
              <a:ext cx="1370880" cy="380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Line 13"/>
            <p:cNvSpPr/>
            <p:nvPr/>
          </p:nvSpPr>
          <p:spPr>
            <a:xfrm flipH="1">
              <a:off x="5712480" y="4190760"/>
              <a:ext cx="2212200" cy="1446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Group 14"/>
          <p:cNvGrpSpPr/>
          <p:nvPr/>
        </p:nvGrpSpPr>
        <p:grpSpPr>
          <a:xfrm>
            <a:off x="3073320" y="4216320"/>
            <a:ext cx="6068880" cy="2309400"/>
            <a:chOff x="3073320" y="4216320"/>
            <a:chExt cx="6068880" cy="2309400"/>
          </a:xfrm>
        </p:grpSpPr>
        <p:grpSp>
          <p:nvGrpSpPr>
            <p:cNvPr id="237" name="Group 15"/>
            <p:cNvGrpSpPr/>
            <p:nvPr/>
          </p:nvGrpSpPr>
          <p:grpSpPr>
            <a:xfrm>
              <a:off x="6858000" y="4216320"/>
              <a:ext cx="2284200" cy="2309400"/>
              <a:chOff x="6858000" y="4216320"/>
              <a:chExt cx="2284200" cy="2309400"/>
            </a:xfrm>
          </p:grpSpPr>
          <p:sp>
            <p:nvSpPr>
              <p:cNvPr id="238" name="Oval 16"/>
              <p:cNvSpPr/>
              <p:nvPr/>
            </p:nvSpPr>
            <p:spPr>
              <a:xfrm>
                <a:off x="6858000" y="4216320"/>
                <a:ext cx="1218240" cy="30456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Oval 17"/>
              <p:cNvSpPr/>
              <p:nvPr/>
            </p:nvSpPr>
            <p:spPr>
              <a:xfrm>
                <a:off x="7923960" y="6221160"/>
                <a:ext cx="1218240" cy="30456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Group 18"/>
            <p:cNvGrpSpPr/>
            <p:nvPr/>
          </p:nvGrpSpPr>
          <p:grpSpPr>
            <a:xfrm>
              <a:off x="4419720" y="4419720"/>
              <a:ext cx="3503520" cy="1941120"/>
              <a:chOff x="4419720" y="4419720"/>
              <a:chExt cx="3503520" cy="1941120"/>
            </a:xfrm>
          </p:grpSpPr>
          <p:sp>
            <p:nvSpPr>
              <p:cNvPr id="241" name="Line 19"/>
              <p:cNvSpPr/>
              <p:nvPr/>
            </p:nvSpPr>
            <p:spPr>
              <a:xfrm flipH="1">
                <a:off x="4419720" y="4419720"/>
                <a:ext cx="2437920" cy="1673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Line 20"/>
              <p:cNvSpPr/>
              <p:nvPr/>
            </p:nvSpPr>
            <p:spPr>
              <a:xfrm flipH="1" flipV="1">
                <a:off x="4419720" y="5825160"/>
                <a:ext cx="3503520" cy="535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3" name="Oval 21"/>
            <p:cNvSpPr/>
            <p:nvPr/>
          </p:nvSpPr>
          <p:spPr>
            <a:xfrm>
              <a:off x="3073320" y="5651640"/>
              <a:ext cx="137160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Group 22"/>
          <p:cNvGrpSpPr/>
          <p:nvPr/>
        </p:nvGrpSpPr>
        <p:grpSpPr>
          <a:xfrm>
            <a:off x="5791320" y="1803240"/>
            <a:ext cx="2309400" cy="1852560"/>
            <a:chOff x="5791320" y="1803240"/>
            <a:chExt cx="2309400" cy="1852560"/>
          </a:xfrm>
        </p:grpSpPr>
        <p:sp>
          <p:nvSpPr>
            <p:cNvPr id="245" name="Oval 23"/>
            <p:cNvSpPr/>
            <p:nvPr/>
          </p:nvSpPr>
          <p:spPr>
            <a:xfrm>
              <a:off x="6996600" y="2057040"/>
              <a:ext cx="1104120" cy="1370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Oval 24"/>
            <p:cNvSpPr/>
            <p:nvPr/>
          </p:nvSpPr>
          <p:spPr>
            <a:xfrm>
              <a:off x="5791320" y="2285280"/>
              <a:ext cx="1217880" cy="1370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Freeform 25"/>
            <p:cNvSpPr/>
            <p:nvPr/>
          </p:nvSpPr>
          <p:spPr>
            <a:xfrm>
              <a:off x="6552360" y="1803240"/>
              <a:ext cx="913680" cy="406080"/>
            </a:xfrm>
            <a:custGeom>
              <a:avLst/>
              <a:gdLst>
                <a:gd name="textAreaLeft" fmla="*/ 0 w 913680"/>
                <a:gd name="textAreaRight" fmla="*/ 914040 w 91368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576" h="256">
                  <a:moveTo>
                    <a:pt x="576" y="160"/>
                  </a:moveTo>
                  <a:cubicBezTo>
                    <a:pt x="480" y="80"/>
                    <a:pt x="384" y="0"/>
                    <a:pt x="288" y="16"/>
                  </a:cubicBezTo>
                  <a:cubicBezTo>
                    <a:pt x="192" y="32"/>
                    <a:pt x="56" y="216"/>
                    <a:pt x="0" y="25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Rectangle 26"/>
          <p:cNvSpPr/>
          <p:nvPr/>
        </p:nvSpPr>
        <p:spPr>
          <a:xfrm>
            <a:off x="3276720" y="2514600"/>
            <a:ext cx="213336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e9"/>
                </a:solidFill>
                <a:latin typeface="Arial"/>
              </a:rPr>
              <a:t>Review t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e9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5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6C9256-7BC3-4FA4-9CE4-1A6CEE55E426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93680" y="193680"/>
            <a:ext cx="805032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teps in Preparing a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ork Shee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0" y="1409760"/>
          <a:ext cx="9144000" cy="59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09760"/>
                    <a:ext cx="914400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3"/>
          <p:cNvGraphicFramePr/>
          <p:nvPr/>
        </p:nvGraphicFramePr>
        <p:xfrm>
          <a:off x="2895480" y="31680"/>
          <a:ext cx="6019920" cy="4426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31680"/>
                    <a:ext cx="6019920" cy="44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5" name="Group 4"/>
          <p:cNvGrpSpPr/>
          <p:nvPr/>
        </p:nvGrpSpPr>
        <p:grpSpPr>
          <a:xfrm>
            <a:off x="5854680" y="1143000"/>
            <a:ext cx="3134880" cy="3541320"/>
            <a:chOff x="5854680" y="1143000"/>
            <a:chExt cx="3134880" cy="3541320"/>
          </a:xfrm>
        </p:grpSpPr>
        <p:sp>
          <p:nvSpPr>
            <p:cNvPr id="256" name="Oval 5"/>
            <p:cNvSpPr/>
            <p:nvPr/>
          </p:nvSpPr>
          <p:spPr>
            <a:xfrm>
              <a:off x="5854680" y="4367160"/>
              <a:ext cx="1142280" cy="317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Oval 6"/>
            <p:cNvSpPr/>
            <p:nvPr/>
          </p:nvSpPr>
          <p:spPr>
            <a:xfrm>
              <a:off x="7390440" y="1143000"/>
              <a:ext cx="1599120" cy="317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Line 7"/>
            <p:cNvSpPr/>
            <p:nvPr/>
          </p:nvSpPr>
          <p:spPr>
            <a:xfrm flipV="1">
              <a:off x="6857280" y="1445400"/>
              <a:ext cx="990000" cy="297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Group 8"/>
          <p:cNvGrpSpPr/>
          <p:nvPr/>
        </p:nvGrpSpPr>
        <p:grpSpPr>
          <a:xfrm>
            <a:off x="4876920" y="1828800"/>
            <a:ext cx="2613960" cy="4290480"/>
            <a:chOff x="4876920" y="1828800"/>
            <a:chExt cx="2613960" cy="4290480"/>
          </a:xfrm>
        </p:grpSpPr>
        <p:sp>
          <p:nvSpPr>
            <p:cNvPr id="260" name="Rectangle 9"/>
            <p:cNvSpPr/>
            <p:nvPr/>
          </p:nvSpPr>
          <p:spPr>
            <a:xfrm>
              <a:off x="4876920" y="4596120"/>
              <a:ext cx="1065600" cy="15231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Rectangle 10"/>
            <p:cNvSpPr/>
            <p:nvPr/>
          </p:nvSpPr>
          <p:spPr>
            <a:xfrm>
              <a:off x="6044040" y="1828800"/>
              <a:ext cx="1446840" cy="19040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Line 11"/>
            <p:cNvSpPr/>
            <p:nvPr/>
          </p:nvSpPr>
          <p:spPr>
            <a:xfrm flipV="1">
              <a:off x="5942520" y="3730680"/>
              <a:ext cx="608760" cy="916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Rectangle 12"/>
          <p:cNvSpPr/>
          <p:nvPr/>
        </p:nvSpPr>
        <p:spPr>
          <a:xfrm>
            <a:off x="4737240" y="825480"/>
            <a:ext cx="2133360" cy="838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e9"/>
                </a:solidFill>
                <a:latin typeface="Arial"/>
              </a:rPr>
              <a:t>Review t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e9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6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4F4E33-FF2F-49F9-A120-53E0F0DB169B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51920" y="3048120"/>
            <a:ext cx="4343400" cy="35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Accounts Payabl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Miscellaneous Expens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Advertising Expens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Wages Expens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Mortgage Payabl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Utilities Expens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Equipment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G. Rojek, Capita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Delivery Expens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HST Recoverabl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47960" y="3048120"/>
            <a:ext cx="4190760" cy="35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buSzPct val="100000"/>
              <a:buBlip>
                <a:blip r:embed="rId1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Bank Loa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1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Accounts Receivabl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1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Automobil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1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1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G. Rojek, Drawing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1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Sal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1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Bank Charges Expens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2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Rent Expens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2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Suppli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2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Truck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buSzPct val="100000"/>
              <a:buBlip>
                <a:blip r:embed="rId2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Arial"/>
              </a:rPr>
              <a:t>HST Payabl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title"/>
          </p:nvPr>
        </p:nvSpPr>
        <p:spPr>
          <a:xfrm>
            <a:off x="1093680" y="-792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ass Work Exercise 1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152280" y="180324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5000"/>
              </a:lnSpc>
              <a:spcBef>
                <a:spcPts val="700"/>
              </a:spcBef>
              <a:buSzPct val="102805"/>
              <a:buBlip>
                <a:blip r:embed="rId24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For each account listed below, indicate whether it would be extended to the Income Statement or Balance Sheet, debit or credit colum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5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0DC386-B94F-482A-850A-FF939706668F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3680" y="-792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ass Work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Exercise 2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Prepare a work sheet for N. Foreman and Company for the month ended April 30, 2007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72" name="Picture 7" descr="Pg 261 Ex 2.JPG"/>
          <p:cNvPicPr/>
          <p:nvPr/>
        </p:nvPicPr>
        <p:blipFill>
          <a:blip r:embed="rId2"/>
          <a:stretch/>
        </p:blipFill>
        <p:spPr>
          <a:xfrm>
            <a:off x="0" y="1428840"/>
            <a:ext cx="91440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5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2F7A4F-5984-48ED-8D1E-25522530256C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93680" y="-792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ass Work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p. 262, Exercise 4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03320" y="16002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Locate errors and make necessary correction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3F1A8-694C-4285-8784-58730306ECC5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828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ffffe9"/>
                </a:solidFill>
                <a:latin typeface="Arial"/>
              </a:rPr>
              <a:t>8.1 The Six-Column Work Sheet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E8BF2C-8B40-4A36-9374-9857E9F5F4BE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Purpose of the Work Shee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78c0b2"/>
                </a:solidFill>
                <a:latin typeface="Arial"/>
              </a:rPr>
              <a:t>work sheet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 is an informal business paper used to organize and plan the information for the financial statement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This is a great application for a computerized spreadsheet program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In Chapter 9 we will expand the </a:t>
            </a:r>
            <a:r>
              <a:rPr b="1" lang="en-US" sz="3200" spc="-1" strike="noStrike">
                <a:solidFill>
                  <a:srgbClr val="78c0b2"/>
                </a:solidFill>
                <a:latin typeface="Arial"/>
              </a:rPr>
              <a:t>work sheet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 to eight columns, allowing for the adjustments required by certain GAAP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27D344-5335-4E6A-BABB-8E719E61DF9B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ontrol Accounts</a:t>
            </a: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 for Accounts Receivable and Accounts Payabl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In the future, when we prepare a trial balance, or a work sheet, we will not display the debtors’ names or creditors’ names associated with Accounts Receivable and Accounts Payabl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Alternatively, we will use </a:t>
            </a:r>
            <a:r>
              <a:rPr b="1" lang="en-US" sz="3200" spc="-1" strike="noStrike">
                <a:solidFill>
                  <a:srgbClr val="78c0b2"/>
                </a:solidFill>
                <a:latin typeface="Arial"/>
              </a:rPr>
              <a:t>control accounts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78c0b2"/>
                </a:solidFill>
                <a:latin typeface="Arial"/>
              </a:rPr>
              <a:t>Accounts Receivable control account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 represents the sum of the balances of all the individual Accounts Receivable account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883771-3833-4621-891A-688B2147850B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3680" y="28224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ontrol Accounts</a:t>
            </a: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 for Accounts Receivable and Accounts Payabl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78c0b2"/>
                </a:solidFill>
                <a:latin typeface="Arial"/>
              </a:rPr>
              <a:t>Accounts Payable control account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 represents the sum of the balances of all the individual Accounts Payable account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Having two control accounts, instead of dozens or hundreds of individual debtors’ and creditors’ accounts, streamlines the work sheet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The details about the accounts of individual debtors and creditors are kept in separate records.  This will be covered in more detail in Chapter 11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3"/>
          <p:cNvGraphicFramePr/>
          <p:nvPr/>
        </p:nvGraphicFramePr>
        <p:xfrm>
          <a:off x="0" y="1409760"/>
          <a:ext cx="914400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09760"/>
                    <a:ext cx="914400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Slide Number Placeholder 5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0CED44-CD12-4B2F-A014-07787F6042A6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3680" y="193680"/>
            <a:ext cx="805032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teps in Preparing a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ork Shee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8" name="Group 2"/>
          <p:cNvGrpSpPr/>
          <p:nvPr/>
        </p:nvGrpSpPr>
        <p:grpSpPr>
          <a:xfrm>
            <a:off x="0" y="1409760"/>
            <a:ext cx="9142560" cy="5903640"/>
            <a:chOff x="0" y="1409760"/>
            <a:chExt cx="9142560" cy="5903640"/>
          </a:xfrm>
        </p:grpSpPr>
        <p:sp>
          <p:nvSpPr>
            <p:cNvPr id="119" name="Rectangle 4"/>
            <p:cNvSpPr/>
            <p:nvPr/>
          </p:nvSpPr>
          <p:spPr>
            <a:xfrm>
              <a:off x="0" y="1409760"/>
              <a:ext cx="9142560" cy="590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AutoShape 5"/>
          <p:cNvSpPr/>
          <p:nvPr/>
        </p:nvSpPr>
        <p:spPr>
          <a:xfrm rot="5400000">
            <a:off x="4230360" y="-1839960"/>
            <a:ext cx="685800" cy="8991720"/>
          </a:xfrm>
          <a:custGeom>
            <a:avLst/>
            <a:gdLst>
              <a:gd name="textAreaLeft" fmla="*/ 0 w 685800"/>
              <a:gd name="textAreaRight" fmla="*/ 247680 w 685800"/>
              <a:gd name="textAreaTop" fmla="*/ 234360 h 8991720"/>
              <a:gd name="textAreaBottom" fmla="*/ 8757360 h 899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3047760"/>
            <a:ext cx="8686800" cy="3733560"/>
          </a:xfrm>
          <a:prstGeom prst="rect">
            <a:avLst/>
          </a:prstGeom>
          <a:solidFill>
            <a:srgbClr val="e8e7d8"/>
          </a:solidFill>
          <a:ln w="63360">
            <a:solidFill>
              <a:srgbClr val="00264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000" spc="-1" strike="noStrike" u="sng">
                <a:solidFill>
                  <a:srgbClr val="78c0b2"/>
                </a:solidFill>
                <a:uFillTx/>
                <a:latin typeface="Arial"/>
              </a:rPr>
              <a:t>Step 1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Write in the title of the work sheet and all of the heading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Account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Trial Balanc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Income State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Balance Shee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3"/>
          <p:cNvGraphicFramePr/>
          <p:nvPr/>
        </p:nvGraphicFramePr>
        <p:xfrm>
          <a:off x="0" y="1409760"/>
          <a:ext cx="914400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09760"/>
                    <a:ext cx="914400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Slide Number Placeholder 5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A5A1C2-D36B-4437-A588-537F2096C99F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3680" y="193680"/>
            <a:ext cx="805032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teps in Preparing a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ork Shee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6" name="Group 2"/>
          <p:cNvGrpSpPr/>
          <p:nvPr/>
        </p:nvGrpSpPr>
        <p:grpSpPr>
          <a:xfrm>
            <a:off x="0" y="1409760"/>
            <a:ext cx="9141840" cy="5903640"/>
            <a:chOff x="0" y="1409760"/>
            <a:chExt cx="9141840" cy="5903640"/>
          </a:xfrm>
        </p:grpSpPr>
        <p:sp>
          <p:nvSpPr>
            <p:cNvPr id="127" name="Rectangle 4"/>
            <p:cNvSpPr/>
            <p:nvPr/>
          </p:nvSpPr>
          <p:spPr>
            <a:xfrm>
              <a:off x="0" y="1409760"/>
              <a:ext cx="9141840" cy="590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AutoShape 5"/>
          <p:cNvSpPr/>
          <p:nvPr/>
        </p:nvSpPr>
        <p:spPr>
          <a:xfrm>
            <a:off x="4952880" y="2286000"/>
            <a:ext cx="838440" cy="4038480"/>
          </a:xfrm>
          <a:custGeom>
            <a:avLst/>
            <a:gdLst>
              <a:gd name="textAreaLeft" fmla="*/ 0 w 838440"/>
              <a:gd name="textAreaRight" fmla="*/ 302760 w 83844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867280" y="2565000"/>
            <a:ext cx="3276720" cy="3505320"/>
          </a:xfrm>
          <a:prstGeom prst="rect">
            <a:avLst/>
          </a:prstGeom>
          <a:solidFill>
            <a:srgbClr val="e8e7d8"/>
          </a:solidFill>
          <a:ln w="63360">
            <a:solidFill>
              <a:srgbClr val="00264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000" spc="-1" strike="noStrike" u="sng">
                <a:solidFill>
                  <a:srgbClr val="78c0b2"/>
                </a:solidFill>
                <a:uFillTx/>
                <a:latin typeface="Arial"/>
              </a:rPr>
              <a:t>Step 2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Enter all accounts, with their balances, in the first two column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2DE266-BA43-49A2-B2EA-F18778E92766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3680" y="193680"/>
            <a:ext cx="805032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teps in Preparing a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ork Shee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2" name="Group 2"/>
          <p:cNvGrpSpPr/>
          <p:nvPr/>
        </p:nvGrpSpPr>
        <p:grpSpPr>
          <a:xfrm>
            <a:off x="0" y="1409760"/>
            <a:ext cx="9256320" cy="5904000"/>
            <a:chOff x="0" y="1409760"/>
            <a:chExt cx="9256320" cy="5904000"/>
          </a:xfrm>
        </p:grpSpPr>
        <p:graphicFrame>
          <p:nvGraphicFramePr>
            <p:cNvPr id="133" name="Object 3"/>
            <p:cNvGraphicFramePr/>
            <p:nvPr/>
          </p:nvGraphicFramePr>
          <p:xfrm>
            <a:off x="0" y="1409760"/>
            <a:ext cx="9142200" cy="5904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4" name="Object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409760"/>
                      <a:ext cx="9142200" cy="590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" name="Rectangle 4"/>
            <p:cNvSpPr/>
            <p:nvPr/>
          </p:nvSpPr>
          <p:spPr>
            <a:xfrm>
              <a:off x="4914000" y="6094440"/>
              <a:ext cx="434232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320" y="6095520"/>
            <a:ext cx="8991360" cy="822600"/>
          </a:xfrm>
          <a:prstGeom prst="rect">
            <a:avLst/>
          </a:prstGeom>
          <a:solidFill>
            <a:srgbClr val="e8e7d8"/>
          </a:solidFill>
          <a:ln w="63360">
            <a:solidFill>
              <a:srgbClr val="00264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78c0b2"/>
                </a:solidFill>
                <a:uFillTx/>
                <a:latin typeface="Arial"/>
              </a:rPr>
              <a:t>Step 3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Extend each of the amounts from the trial balance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37" name="Group 6"/>
          <p:cNvGrpSpPr/>
          <p:nvPr/>
        </p:nvGrpSpPr>
        <p:grpSpPr>
          <a:xfrm>
            <a:off x="4915080" y="2286000"/>
            <a:ext cx="2245680" cy="2131920"/>
            <a:chOff x="4915080" y="2286000"/>
            <a:chExt cx="2245680" cy="2131920"/>
          </a:xfrm>
        </p:grpSpPr>
        <p:sp>
          <p:nvSpPr>
            <p:cNvPr id="138" name="Rectangle 7"/>
            <p:cNvSpPr/>
            <p:nvPr/>
          </p:nvSpPr>
          <p:spPr>
            <a:xfrm>
              <a:off x="4915080" y="2286000"/>
              <a:ext cx="1941120" cy="2131920"/>
            </a:xfrm>
            <a:prstGeom prst="rect">
              <a:avLst/>
            </a:prstGeom>
            <a:solidFill>
              <a:srgbClr val="78c0b2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Assets,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Liabilities,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Capital an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Drawing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in th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 u="sng">
                  <a:solidFill>
                    <a:srgbClr val="00264c"/>
                  </a:solidFill>
                  <a:uFillTx/>
                  <a:latin typeface="Arial"/>
                </a:rPr>
                <a:t>Balance Shee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columns.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AutoShape 8"/>
            <p:cNvSpPr/>
            <p:nvPr/>
          </p:nvSpPr>
          <p:spPr>
            <a:xfrm>
              <a:off x="6856200" y="2286000"/>
              <a:ext cx="304560" cy="21286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55440 h 2128680"/>
                <a:gd name="textAreaBottom" fmla="*/ 2073240 h 21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solidFill>
              <a:srgbClr val="78c0b2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6807240" y="4495680"/>
            <a:ext cx="2195280" cy="1525680"/>
            <a:chOff x="6807240" y="4495680"/>
            <a:chExt cx="2195280" cy="1525680"/>
          </a:xfrm>
        </p:grpSpPr>
        <p:sp>
          <p:nvSpPr>
            <p:cNvPr id="141" name="Rectangle 10"/>
            <p:cNvSpPr/>
            <p:nvPr/>
          </p:nvSpPr>
          <p:spPr>
            <a:xfrm>
              <a:off x="7022880" y="4495680"/>
              <a:ext cx="1979640" cy="1522800"/>
            </a:xfrm>
            <a:prstGeom prst="rect">
              <a:avLst/>
            </a:prstGeom>
            <a:solidFill>
              <a:srgbClr val="78c0b2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Revenue an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Expenses in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the </a:t>
              </a:r>
              <a:r>
                <a:rPr b="1" lang="en-US" sz="2200" spc="-1" strike="noStrike" u="sng">
                  <a:solidFill>
                    <a:srgbClr val="00264c"/>
                  </a:solidFill>
                  <a:uFillTx/>
                  <a:latin typeface="Arial"/>
                </a:rPr>
                <a:t>Incom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 u="sng">
                  <a:solidFill>
                    <a:srgbClr val="00264c"/>
                  </a:solidFill>
                  <a:uFillTx/>
                  <a:latin typeface="Arial"/>
                </a:rPr>
                <a:t>Statem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264c"/>
                  </a:solidFill>
                  <a:latin typeface="Arial"/>
                </a:rPr>
                <a:t>columns.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AutoShape 11"/>
            <p:cNvSpPr/>
            <p:nvPr/>
          </p:nvSpPr>
          <p:spPr>
            <a:xfrm>
              <a:off x="6807240" y="4495680"/>
              <a:ext cx="228240" cy="1525680"/>
            </a:xfrm>
            <a:custGeom>
              <a:avLst/>
              <a:gdLst>
                <a:gd name="textAreaLeft" fmla="*/ 145800 w 228240"/>
                <a:gd name="textAreaRight" fmla="*/ 228600 w 228240"/>
                <a:gd name="textAreaTop" fmla="*/ 39600 h 1525680"/>
                <a:gd name="textAreaBottom" fmla="*/ 1486080 h 152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78c0b2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Group 57"/>
          <p:cNvGrpSpPr/>
          <p:nvPr/>
        </p:nvGrpSpPr>
        <p:grpSpPr>
          <a:xfrm>
            <a:off x="3929040" y="2371680"/>
            <a:ext cx="4215240" cy="3629520"/>
            <a:chOff x="3929040" y="2371680"/>
            <a:chExt cx="4215240" cy="3629520"/>
          </a:xfrm>
        </p:grpSpPr>
        <p:grpSp>
          <p:nvGrpSpPr>
            <p:cNvPr id="144" name="Group 56"/>
            <p:cNvGrpSpPr/>
            <p:nvPr/>
          </p:nvGrpSpPr>
          <p:grpSpPr>
            <a:xfrm>
              <a:off x="3929040" y="2371680"/>
              <a:ext cx="4215240" cy="1643400"/>
              <a:chOff x="3929040" y="2371680"/>
              <a:chExt cx="4215240" cy="1643400"/>
            </a:xfrm>
          </p:grpSpPr>
          <p:cxnSp>
            <p:nvCxnSpPr>
              <p:cNvPr id="145" name="Straight Arrow Connector 14"/>
              <p:cNvCxnSpPr/>
              <p:nvPr/>
            </p:nvCxnSpPr>
            <p:spPr>
              <a:xfrm>
                <a:off x="3929040" y="2371680"/>
                <a:ext cx="314424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46" name="Straight Arrow Connector 15"/>
              <p:cNvCxnSpPr/>
              <p:nvPr/>
            </p:nvCxnSpPr>
            <p:spPr>
              <a:xfrm>
                <a:off x="3929040" y="2542680"/>
                <a:ext cx="314424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47" name="Straight Arrow Connector 16"/>
              <p:cNvCxnSpPr/>
              <p:nvPr/>
            </p:nvCxnSpPr>
            <p:spPr>
              <a:xfrm>
                <a:off x="3929040" y="2742480"/>
                <a:ext cx="314424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48" name="Straight Arrow Connector 17"/>
              <p:cNvCxnSpPr/>
              <p:nvPr/>
            </p:nvCxnSpPr>
            <p:spPr>
              <a:xfrm>
                <a:off x="3929040" y="2929320"/>
                <a:ext cx="314424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49" name="Straight Arrow Connector 18"/>
              <p:cNvCxnSpPr/>
              <p:nvPr/>
            </p:nvCxnSpPr>
            <p:spPr>
              <a:xfrm>
                <a:off x="3929040" y="3099960"/>
                <a:ext cx="314424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50" name="Straight Arrow Connector 19"/>
              <p:cNvCxnSpPr/>
              <p:nvPr/>
            </p:nvCxnSpPr>
            <p:spPr>
              <a:xfrm>
                <a:off x="5000400" y="3285000"/>
                <a:ext cx="314424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51" name="Straight Arrow Connector 20"/>
              <p:cNvCxnSpPr/>
              <p:nvPr/>
            </p:nvCxnSpPr>
            <p:spPr>
              <a:xfrm>
                <a:off x="5000400" y="3470040"/>
                <a:ext cx="314424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52" name="Straight Arrow Connector 21"/>
              <p:cNvCxnSpPr/>
              <p:nvPr/>
            </p:nvCxnSpPr>
            <p:spPr>
              <a:xfrm flipV="1">
                <a:off x="5000400" y="3643560"/>
                <a:ext cx="2215440" cy="2664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53" name="Straight Arrow Connector 22"/>
              <p:cNvCxnSpPr/>
              <p:nvPr/>
            </p:nvCxnSpPr>
            <p:spPr>
              <a:xfrm>
                <a:off x="5000400" y="3842640"/>
                <a:ext cx="314424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54" name="Straight Arrow Connector 23"/>
              <p:cNvCxnSpPr/>
              <p:nvPr/>
            </p:nvCxnSpPr>
            <p:spPr>
              <a:xfrm>
                <a:off x="5000400" y="4013280"/>
                <a:ext cx="314424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155" name="Straight Arrow Connector 40"/>
            <p:cNvCxnSpPr/>
            <p:nvPr/>
          </p:nvCxnSpPr>
          <p:spPr>
            <a:xfrm>
              <a:off x="3929040" y="4368960"/>
              <a:ext cx="314424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56" name="Straight Arrow Connector 45"/>
            <p:cNvCxnSpPr/>
            <p:nvPr/>
          </p:nvCxnSpPr>
          <p:spPr>
            <a:xfrm>
              <a:off x="4857480" y="4572360"/>
              <a:ext cx="100080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57" name="Straight Arrow Connector 47"/>
            <p:cNvCxnSpPr/>
            <p:nvPr/>
          </p:nvCxnSpPr>
          <p:spPr>
            <a:xfrm>
              <a:off x="3929040" y="4740840"/>
              <a:ext cx="100080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58" name="Straight Arrow Connector 48"/>
            <p:cNvCxnSpPr/>
            <p:nvPr/>
          </p:nvCxnSpPr>
          <p:spPr>
            <a:xfrm>
              <a:off x="3929040" y="4929480"/>
              <a:ext cx="100080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59" name="Straight Arrow Connector 49"/>
            <p:cNvCxnSpPr/>
            <p:nvPr/>
          </p:nvCxnSpPr>
          <p:spPr>
            <a:xfrm>
              <a:off x="3929040" y="5097960"/>
              <a:ext cx="100080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60" name="Straight Arrow Connector 50"/>
            <p:cNvCxnSpPr/>
            <p:nvPr/>
          </p:nvCxnSpPr>
          <p:spPr>
            <a:xfrm>
              <a:off x="3929040" y="5285160"/>
              <a:ext cx="100080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61" name="Straight Arrow Connector 51"/>
            <p:cNvCxnSpPr/>
            <p:nvPr/>
          </p:nvCxnSpPr>
          <p:spPr>
            <a:xfrm>
              <a:off x="3929040" y="5469840"/>
              <a:ext cx="100080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62" name="Straight Arrow Connector 52"/>
            <p:cNvCxnSpPr/>
            <p:nvPr/>
          </p:nvCxnSpPr>
          <p:spPr>
            <a:xfrm>
              <a:off x="3929040" y="5657040"/>
              <a:ext cx="100080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63" name="Straight Arrow Connector 53"/>
            <p:cNvCxnSpPr/>
            <p:nvPr/>
          </p:nvCxnSpPr>
          <p:spPr>
            <a:xfrm>
              <a:off x="3929040" y="5841720"/>
              <a:ext cx="100080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64" name="Straight Arrow Connector 54"/>
            <p:cNvCxnSpPr/>
            <p:nvPr/>
          </p:nvCxnSpPr>
          <p:spPr>
            <a:xfrm>
              <a:off x="3929040" y="5999400"/>
              <a:ext cx="100080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8217000" y="6248520"/>
            <a:ext cx="531720" cy="608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B55446-9762-41D5-A23A-1863045C1DA1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93680" y="193680"/>
            <a:ext cx="805032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teps in Preparing a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ork Shee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67" name="Object 2"/>
          <p:cNvGraphicFramePr/>
          <p:nvPr/>
        </p:nvGraphicFramePr>
        <p:xfrm>
          <a:off x="0" y="1409760"/>
          <a:ext cx="9144000" cy="59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09760"/>
                    <a:ext cx="914400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320" y="6362640"/>
            <a:ext cx="9067680" cy="457200"/>
          </a:xfrm>
          <a:prstGeom prst="rect">
            <a:avLst/>
          </a:prstGeom>
          <a:solidFill>
            <a:srgbClr val="e8e7d8"/>
          </a:solidFill>
          <a:ln w="63360">
            <a:solidFill>
              <a:srgbClr val="00264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78c0b2"/>
                </a:solidFill>
                <a:uFillTx/>
                <a:latin typeface="Arial"/>
              </a:rPr>
              <a:t>Step 4:</a:t>
            </a:r>
            <a:r>
              <a:rPr b="1" lang="en-US" sz="2800" spc="-1" strike="noStrike">
                <a:solidFill>
                  <a:srgbClr val="78c0b2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Balance the work sheet  …  (a) take total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2786040" y="6107040"/>
            <a:ext cx="6286680" cy="250920"/>
          </a:xfrm>
          <a:prstGeom prst="rect">
            <a:avLst/>
          </a:prstGeom>
          <a:solidFill>
            <a:srgbClr val="00cc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7:35:42Z</dcterms:created>
  <dc:creator>PeelUser</dc:creator>
  <dc:description/>
  <dc:language>en-US</dc:language>
  <cp:lastModifiedBy>Cameron Stott</cp:lastModifiedBy>
  <dcterms:modified xsi:type="dcterms:W3CDTF">2016-04-20T16:20:18Z</dcterms:modified>
  <cp:revision>15</cp:revision>
  <dc:subject/>
  <dc:title>The Work Sheet and Financial Statements</dc:title>
</cp:coreProperties>
</file>